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318-B3B5-463D-813C-FDB8C476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E05-C81C-4E7E-91D9-69F370B2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6E57-B9B6-4323-9EB9-5E03BC75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0396-30B9-4204-AA26-0D72EB9F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6222-6C87-4231-834B-46E5EF06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CF16-A14A-47E1-BEF1-AABF8FCF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BD3F-C9CA-407C-A67E-1322CEC0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7C6C-930D-4818-AF0B-F70FF763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9DF8-8BB6-4B97-B0FC-A09EBA2A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C74E-1AB5-4C14-B8FD-510B5CC8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42B7-F7FC-4E2C-8EF7-2A335C61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64CA-48CE-478E-B8E9-09C1E599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A05D-FB7A-4951-A203-82C9D31D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8B48-593A-44A0-A5ED-E47F227F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5AB4-75E4-4E6C-8EF9-4B6A8280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90C0-8CD5-41D4-B990-855E2B3C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377B-85A1-4760-8FE6-0B119A3C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D13D-2D55-4864-B46C-10CCCD9A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B832-A691-43C1-9EBD-01FC92AA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2D5-B28E-4D19-BDC9-B9900972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FD5C-AB23-4F2D-A3A4-D649D9A7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B16-2F60-4C98-91A7-2A8C05B3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DB7-5A66-415F-927E-6970E595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4C7-9623-4DC3-92B3-BC482E01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D3BD-BB04-4A4A-810E-359E7F3DC5E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7768-86AE-41CD-B3D4-32F1C57B362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pa.gov/ozone/science/hole/holeanim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 4. Ozone depletion in stratosphere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scribe the formation and depletion of ozone in the stratosphere by natural processes.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ist the ozone-depleting pollutants and their sources.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scuss the alternatives to CFCs in terms of their properties.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: anthropogenic depletion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5345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 depletio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: equations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hotodissociation: C- Cl is weakest bond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Angsana New"/>
            </a:endParaRPr>
          </a:p>
          <a:p>
            <a:pPr marL="38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CCl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F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2   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CClF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+     Cl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88440" indent="-3884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talytic depletion:  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  </a:t>
            </a:r>
            <a:endParaRPr b="0" lang="en-US" sz="2000" spc="-1" strike="noStrike">
              <a:solidFill>
                <a:srgbClr val="5b5249"/>
              </a:solidFill>
              <a:latin typeface="Angsana New"/>
            </a:endParaRPr>
          </a:p>
          <a:p>
            <a:pPr marL="38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Cl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 +     O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3   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ClO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+   O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8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Angsana New"/>
            </a:endParaRPr>
          </a:p>
          <a:p>
            <a:pPr marL="38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 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ClO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+   O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Cl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+     O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2 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8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 depletio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: equations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talytic depletion:  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83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  </a:t>
            </a:r>
            <a:endParaRPr b="0" lang="en-US" sz="2000" spc="-1" strike="noStrike">
              <a:solidFill>
                <a:srgbClr val="5b5249"/>
              </a:solidFill>
              <a:latin typeface="Angsana New"/>
            </a:endParaRPr>
          </a:p>
          <a:p>
            <a:pPr marL="383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NO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 +     O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3   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NO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+   O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83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Angsana New"/>
            </a:endParaRPr>
          </a:p>
          <a:p>
            <a:pPr marL="383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 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NO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+   O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NO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+     O</a:t>
            </a: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2 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83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Angsana New"/>
            </a:endParaRPr>
          </a:p>
          <a:p>
            <a:pPr marL="383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When added: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83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Angsana New"/>
            </a:endParaRPr>
          </a:p>
          <a:p>
            <a:pPr marL="383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         </a:t>
            </a:r>
            <a:r>
              <a:rPr b="0" lang="en-US" sz="3200" spc="-1" strike="noStrike">
                <a:solidFill>
                  <a:srgbClr val="2a3d7a"/>
                </a:solidFill>
                <a:latin typeface="Arial"/>
                <a:ea typeface="Times New Roman"/>
              </a:rPr>
              <a:t>O</a:t>
            </a:r>
            <a:r>
              <a:rPr b="0" lang="en-US" sz="3200" spc="-1" strike="noStrike" baseline="-25000">
                <a:solidFill>
                  <a:srgbClr val="2a3d7a"/>
                </a:solidFill>
                <a:latin typeface="Arial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2a3d7a"/>
                </a:solidFill>
                <a:latin typeface="Arial"/>
                <a:ea typeface="Times New Roman"/>
              </a:rPr>
              <a:t>  +   O</a:t>
            </a:r>
            <a:r>
              <a:rPr b="0" lang="en-US" sz="3200" spc="-1" strike="noStrike">
                <a:solidFill>
                  <a:srgbClr val="2a3d7a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2a3d7a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 baseline="-30000">
                <a:solidFill>
                  <a:srgbClr val="2a3d7a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2a3d7a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2a3d7a"/>
                </a:solidFill>
                <a:latin typeface="Arial"/>
                <a:ea typeface="Times New Roman"/>
              </a:rPr>
              <a:t>   2O</a:t>
            </a:r>
            <a:r>
              <a:rPr b="0" lang="en-US" sz="3200" spc="-1" strike="noStrike" baseline="-30000">
                <a:solidFill>
                  <a:srgbClr val="2a3d7a"/>
                </a:solidFill>
                <a:latin typeface="Arial"/>
                <a:ea typeface="Times New Roman"/>
              </a:rPr>
              <a:t>2 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83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83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FCs alternatives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must have similar positive properties but without the production of Cl radicals or any other radical than can cause it.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dvantages of these alternatives:  reduced production of Cl</a:t>
            </a:r>
            <a:r>
              <a:rPr b="0" lang="en-US" sz="2400" spc="-1" strike="noStrike">
                <a:solidFill>
                  <a:srgbClr val="5b524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free radical.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ese alternatives should be/have: low boiling points, non-toxic, non-reactive, non-flammable and not acts as greenhouse gases.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 depletion: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alternatives to CFCs</a:t>
            </a:r>
            <a:endParaRPr b="0" lang="en-US" sz="40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ydrocarbon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such as propane and 2- methyl propane as refrigerant coolants: no halogens; more flammable + also greenhouse effect.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luorocarbon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: stronger C- F bond; greenhouse effect.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ydrochlorofluorocarbon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: H makes it more stable but still has C- Cl bonds; fewer halogen free radicals released – also greenhouse gas.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ydrofluorocarbon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: stronger C-F bond.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a3d7a"/>
                </a:solidFill>
                <a:uFillTx/>
                <a:latin typeface="Times New Roman"/>
              </a:rPr>
              <a:t>Ozone depletion: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alternatives to CFCs</a:t>
            </a:r>
            <a:endParaRPr b="0" lang="en-US" sz="36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lternatives have all useful properties of CFS’s but some issues: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opane and 2- methyl propane as refrigerant coolants: greenhouse gases/flammable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luorocarbons: greenhouse gases but not flammable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ydrochlorofluorocarbons: still some depletion as has Cl, and also greenhouse gases 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 depletion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ery pale bluish gas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ery powerful oxidising agent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ungent smelling odor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bsorbs UV light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detection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: [O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] in a sample of air can be measured using UV spectroscopy; the more UV is absorbed the higher [O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upper stratosphere; 15 to 45 km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 depletion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Two functions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06800" indent="-406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bsorbs UV – 290 – 320 nm; UV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lvl="1" marL="914040" indent="-4050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uses sunburn, skin cancer, eye cataracts (=clouding of the eye – can lead to blindness)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lvl="1" marL="914040" indent="-4050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educes plant growth as O</a:t>
            </a:r>
            <a:r>
              <a:rPr b="0" lang="en-US" sz="2000" spc="-1" strike="noStrike" baseline="-25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destroys apparatus for photosynthesis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lvl="1" marL="914040" indent="-4050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n cause genetic mutations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lvl="1" marL="914040" indent="-4050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uses loss of plankton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lvl="1" marL="914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Angsana New"/>
            </a:endParaRPr>
          </a:p>
          <a:p>
            <a:pPr marL="406800" indent="-406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zone production releases energy which produces an increase in temperature in stratosphere which gives it stability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lvl="1" marL="91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lvl="1" marL="91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lvl="1" marL="91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: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natural cycle (stratosphere)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65760" indent="-3657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mation of ozone: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6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  <a:ea typeface="Arial"/>
              </a:rPr>
              <a:t>                       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</a:t>
            </a:r>
            <a:r>
              <a:rPr b="0" lang="en-US" sz="2400" spc="-1" strike="noStrike" baseline="-30000">
                <a:solidFill>
                  <a:srgbClr val="ff9900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 +  uv   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O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  +     O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     (uv = 242 nm)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36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                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</a:t>
            </a:r>
            <a:r>
              <a:rPr b="0" lang="en-US" sz="2400" spc="-1" strike="noStrike" baseline="-30000">
                <a:solidFill>
                  <a:srgbClr val="ff9900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 +  O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   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O</a:t>
            </a:r>
            <a:r>
              <a:rPr b="0" lang="en-US" sz="2400" spc="-1" strike="noStrike" baseline="-30000">
                <a:solidFill>
                  <a:srgbClr val="ff9900"/>
                </a:solidFill>
                <a:latin typeface="Times New Roman"/>
                <a:ea typeface="Arial"/>
              </a:rPr>
              <a:t>3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36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365760" indent="-3657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atural depletion of ozone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36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</a:t>
            </a:r>
            <a:r>
              <a:rPr b="0" lang="en-US" sz="2400" spc="-1" strike="noStrike" baseline="-30000">
                <a:solidFill>
                  <a:srgbClr val="ff9900"/>
                </a:solidFill>
                <a:latin typeface="Times New Roman"/>
                <a:ea typeface="Arial"/>
              </a:rPr>
              <a:t>3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 +  O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     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2O</a:t>
            </a:r>
            <a:r>
              <a:rPr b="0" lang="en-US" sz="2400" spc="-1" strike="noStrike" baseline="-30000">
                <a:solidFill>
                  <a:srgbClr val="ff99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36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</a:t>
            </a:r>
            <a:r>
              <a:rPr b="0" lang="en-US" sz="2400" spc="-1" strike="noStrike" baseline="-30000">
                <a:solidFill>
                  <a:srgbClr val="ff9900"/>
                </a:solidFill>
                <a:latin typeface="Times New Roman"/>
                <a:ea typeface="Arial"/>
              </a:rPr>
              <a:t>3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 +  uv   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O</a:t>
            </a:r>
            <a:r>
              <a:rPr b="0" lang="en-US" sz="2400" spc="-1" strike="noStrike" baseline="-30000">
                <a:solidFill>
                  <a:srgbClr val="ff9900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 +     O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  (uv = 290 – 320 nm)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36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365760" indent="-3657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rate of formation = equal to rate of depletion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365760" indent="-3657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= steady state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365760" indent="-3657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both types of reactions are slow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36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: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evidence for depletion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2101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Antartica, autumn 2003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ozone hole = area having less than 220 Dobson units</a:t>
            </a: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(if 100 DU of ozone were brought to the Earth's surface, it would form a layer 1 millimeter thick)</a:t>
            </a:r>
            <a:endParaRPr b="0" lang="en-US" sz="18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ngsana New"/>
            </a:endParaRPr>
          </a:p>
        </p:txBody>
      </p:sp>
      <p:pic>
        <p:nvPicPr>
          <p:cNvPr id="101" name="Picture 6" descr="[Animation of the 2000 Ozone Hole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905120"/>
            <a:ext cx="36957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: evidence of depletion 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: depletion     </a:t>
            </a:r>
            <a:r>
              <a:rPr b="0" lang="en-US" sz="1200" spc="-1" strike="noStrike">
                <a:solidFill>
                  <a:srgbClr val="2a3d7a"/>
                </a:solidFill>
                <a:latin typeface="Times New Roman"/>
              </a:rPr>
              <a:t>http://www.epa.gov/ozone/science/hole/size.html</a:t>
            </a:r>
            <a:endParaRPr b="0" lang="en-US" sz="1200" spc="-1" strike="noStrike">
              <a:solidFill>
                <a:srgbClr val="2a3d7a"/>
              </a:solidFill>
              <a:latin typeface="Angsana New"/>
            </a:endParaRPr>
          </a:p>
        </p:txBody>
      </p:sp>
      <p:grpSp>
        <p:nvGrpSpPr>
          <p:cNvPr id="105" name="Group 20"/>
          <p:cNvGrpSpPr/>
          <p:nvPr/>
        </p:nvGrpSpPr>
        <p:grpSpPr>
          <a:xfrm>
            <a:off x="2820960" y="1795320"/>
            <a:ext cx="3502080" cy="3186000"/>
            <a:chOff x="2820960" y="1795320"/>
            <a:chExt cx="3502080" cy="3186000"/>
          </a:xfrm>
        </p:grpSpPr>
        <p:sp>
          <p:nvSpPr>
            <p:cNvPr id="106" name="Rectangle 17"/>
            <p:cNvSpPr/>
            <p:nvPr/>
          </p:nvSpPr>
          <p:spPr>
            <a:xfrm>
              <a:off x="2820960" y="1795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" name="Rectangle 18"/>
            <p:cNvSpPr/>
            <p:nvPr/>
          </p:nvSpPr>
          <p:spPr>
            <a:xfrm>
              <a:off x="2820960" y="1795320"/>
              <a:ext cx="3502080" cy="31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b5249"/>
                  </a:solidFill>
                  <a:latin typeface="Arial"/>
                  <a:ea typeface="Arial"/>
                </a:rPr>
                <a:t>  </a:t>
              </a:r>
              <a:r>
                <a:rPr b="0" lang="en-US" sz="20300" spc="-1" strike="noStrike">
                  <a:solidFill>
                    <a:srgbClr val="5b5249"/>
                  </a:solidFill>
                  <a:latin typeface="Arial"/>
                  <a:ea typeface="Arial"/>
                </a:rPr>
                <a:t> </a:t>
              </a:r>
              <a:r>
                <a:rPr b="0" lang="en-US" sz="1000" spc="-1" strike="noStrike">
                  <a:solidFill>
                    <a:srgbClr val="5b5249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08" name="Picture 19" descr="[Graph of Ozone Minima vs. Year]"/>
          <p:cNvPicPr/>
          <p:nvPr/>
        </p:nvPicPr>
        <p:blipFill>
          <a:blip r:embed="rId1"/>
          <a:stretch/>
        </p:blipFill>
        <p:spPr>
          <a:xfrm>
            <a:off x="533520" y="2209680"/>
            <a:ext cx="2743200" cy="41911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24"/>
          <p:cNvGrpSpPr/>
          <p:nvPr/>
        </p:nvGrpSpPr>
        <p:grpSpPr>
          <a:xfrm>
            <a:off x="2820960" y="1795320"/>
            <a:ext cx="3502080" cy="3186000"/>
            <a:chOff x="2820960" y="1795320"/>
            <a:chExt cx="3502080" cy="3186000"/>
          </a:xfrm>
        </p:grpSpPr>
        <p:sp>
          <p:nvSpPr>
            <p:cNvPr id="110" name="Rectangle 21"/>
            <p:cNvSpPr/>
            <p:nvPr/>
          </p:nvSpPr>
          <p:spPr>
            <a:xfrm>
              <a:off x="2820960" y="1795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1" name="Rectangle 22"/>
            <p:cNvSpPr/>
            <p:nvPr/>
          </p:nvSpPr>
          <p:spPr>
            <a:xfrm>
              <a:off x="2820960" y="1795320"/>
              <a:ext cx="3502080" cy="31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b5249"/>
                  </a:solidFill>
                  <a:latin typeface="Arial"/>
                  <a:ea typeface="Arial"/>
                </a:rPr>
                <a:t>  </a:t>
              </a:r>
              <a:r>
                <a:rPr b="0" lang="en-US" sz="20300" spc="-1" strike="noStrike">
                  <a:solidFill>
                    <a:srgbClr val="5b5249"/>
                  </a:solidFill>
                  <a:latin typeface="Arial"/>
                  <a:ea typeface="Arial"/>
                </a:rPr>
                <a:t> </a:t>
              </a:r>
              <a:r>
                <a:rPr b="0" lang="en-US" sz="1000" spc="-1" strike="noStrike">
                  <a:solidFill>
                    <a:srgbClr val="5b5249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12" name="Picture 23" descr="[Graph of Annual Ozone Variation]"/>
          <p:cNvPicPr/>
          <p:nvPr/>
        </p:nvPicPr>
        <p:blipFill>
          <a:blip r:embed="rId2"/>
          <a:stretch/>
        </p:blipFill>
        <p:spPr>
          <a:xfrm>
            <a:off x="3429000" y="2438280"/>
            <a:ext cx="2971800" cy="322272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28"/>
          <p:cNvGrpSpPr/>
          <p:nvPr/>
        </p:nvGrpSpPr>
        <p:grpSpPr>
          <a:xfrm>
            <a:off x="2820960" y="1795320"/>
            <a:ext cx="3502080" cy="3186000"/>
            <a:chOff x="2820960" y="1795320"/>
            <a:chExt cx="3502080" cy="3186000"/>
          </a:xfrm>
        </p:grpSpPr>
        <p:sp>
          <p:nvSpPr>
            <p:cNvPr id="114" name="Rectangle 25"/>
            <p:cNvSpPr/>
            <p:nvPr/>
          </p:nvSpPr>
          <p:spPr>
            <a:xfrm>
              <a:off x="2820960" y="1795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" name="Rectangle 26"/>
            <p:cNvSpPr/>
            <p:nvPr/>
          </p:nvSpPr>
          <p:spPr>
            <a:xfrm>
              <a:off x="2820960" y="1795320"/>
              <a:ext cx="3502080" cy="31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b5249"/>
                  </a:solidFill>
                  <a:latin typeface="Arial"/>
                  <a:ea typeface="Arial"/>
                </a:rPr>
                <a:t>  </a:t>
              </a:r>
              <a:r>
                <a:rPr b="0" lang="en-US" sz="20300" spc="-1" strike="noStrike">
                  <a:solidFill>
                    <a:srgbClr val="5b5249"/>
                  </a:solidFill>
                  <a:latin typeface="Arial"/>
                  <a:ea typeface="Arial"/>
                </a:rPr>
                <a:t> </a:t>
              </a:r>
              <a:r>
                <a:rPr b="0" lang="en-US" sz="1000" spc="-1" strike="noStrike">
                  <a:solidFill>
                    <a:srgbClr val="5b5249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16" name="Picture 27" descr="[Graph of Ozone Hole Area vs. Year]"/>
          <p:cNvPicPr/>
          <p:nvPr/>
        </p:nvPicPr>
        <p:blipFill>
          <a:blip r:embed="rId3"/>
          <a:stretch/>
        </p:blipFill>
        <p:spPr>
          <a:xfrm>
            <a:off x="6477120" y="2743200"/>
            <a:ext cx="2514600" cy="32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: man-made depletion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itrogen oxides: sources: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mbustion, airplanes, nitrogenous fertilisers</a:t>
            </a:r>
            <a:endParaRPr b="0" lang="en-US" sz="20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FCs = chlorofluorocarbons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used in: refrigerators, air conditioners, blowing agents, solvents, dry cleaning agents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hemically stable, low toxicity, volatile, insulating, fire suppressive, low cost </a:t>
            </a:r>
            <a:endParaRPr b="0" lang="en-US" sz="24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nd up in stratosphere as they are not broken down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l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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free radical produced by uv - photodissociation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l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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acts as catalyst in ozone depletion – catalytic depletion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ChloroFluoroCarbons: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useful compounds</a:t>
            </a:r>
            <a:endParaRPr b="0" lang="en-US" sz="4400" spc="-1" strike="noStrike">
              <a:solidFill>
                <a:srgbClr val="2a3d7a"/>
              </a:solidFill>
              <a:latin typeface="Angsana Ne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hemically stable; long atmospheric life-time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ow toxicity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ow cost to manufacture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volatile liquids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ood solvents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sulating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ire-oppressive </a:t>
            </a:r>
            <a:endParaRPr b="0" lang="en-US" sz="2800" spc="-1" strike="noStrike">
              <a:solidFill>
                <a:srgbClr val="5b5249"/>
              </a:solidFill>
              <a:latin typeface="Angsana Ne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12:17:18Z</dcterms:created>
  <dc:creator>nvandecasteele</dc:creator>
  <dc:description/>
  <dc:language>en-US</dc:language>
  <cp:lastModifiedBy>Client Admin</cp:lastModifiedBy>
  <cp:lastPrinted>2013-02-26T01:33:26Z</cp:lastPrinted>
  <dcterms:modified xsi:type="dcterms:W3CDTF">2013-02-26T01:34:19Z</dcterms:modified>
  <cp:revision>65</cp:revision>
  <dc:subject/>
  <dc:title>Environmnetal Chemistry </dc:title>
</cp:coreProperties>
</file>